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BC3-D2E3-4BDB-AF6A-3B01B0F5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DF0-8669-4468-9BCC-F1E9DF5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13E09-6F3F-4430-AEE6-4A1B5885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966BB-2664-4AC9-9DCE-0867E2C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4C94B-7A28-47D6-996C-7A07B46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20853-90AE-4435-81BD-B3E0F5C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3470E-05C9-4CEE-8B24-D54715D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B806A-B660-430C-9D7A-88F1B37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6AB9F-B0F3-4F79-ABBC-C1DC40D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44AF8-8D6E-49D9-A40A-E47FC4B0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557C6-11F4-4AC4-B0B4-15192F00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4EDD1-1E96-4FE7-97B5-2D1620A0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ABB-9E55-4DE8-B11B-39DAB501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AE7A4-4D23-4DF2-91A6-C48ED94C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2F3F5-CED8-41B2-8690-BC7975F3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EA222-BD18-4D6E-A130-FC3CC904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5E800-6508-4AD5-9236-53D634B1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80812-7AAC-4F22-B960-DF33166A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8327D-06E6-4AFE-8D80-60B693C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78754-3B60-4B8D-A8F5-3B739AB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DCE1C-1943-4213-86F8-5844904C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70353-5B24-47F1-9375-1D7AECCD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E9FAB-E6A1-4EB9-9E4B-B94341D6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8F6-3B6C-4ADD-B1D6-143F1ACE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DCB2F-E638-41CE-80CD-BA8EC03A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919B1-44EF-4E1B-9592-E1DDBBDA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C48A4-E6D7-4F55-B400-04C6168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114F1-0E2F-4E04-9682-DEFFE18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2F207-D225-4AA0-A16C-432C545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E586-4F5A-466D-BCD6-D9E32D06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2027D-0870-4346-8151-F948FF5C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419A-D092-47FB-A215-BE3AD26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A2F00-5643-4BD4-A47D-8FE0677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B4AB-4F6E-4C75-9409-55D42E0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0CC4-F9D9-414F-B379-6BE6FA73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5E99-8432-4AD9-A0DE-1AD56BC8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20C54-BED6-41C7-8BAC-68FB1AE9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7B52-680E-4234-937A-02CB792F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F4587-8F9E-49F7-87EB-25B58B59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D8C0F-9683-4907-85B6-DA8198C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4405E-E2C6-46F9-B16D-BEFCA28F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9135F-323C-4A90-B358-F73FD12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48BEC-EEDC-4D73-8B0C-0727A4F8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58227-44E1-4E89-8920-D751FFB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5C44B-BA0B-403C-B732-A63A7D6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F400-D534-44D7-BBBA-2139F28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4CDF8-7C3C-4813-A0B9-23F5876C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DEE29-8DDB-41E5-AA00-D99B3FB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36947-F075-477B-8DCF-12D8C8A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FEF10-CAE3-4013-9EF3-B6545771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CC9C6-4FC2-4673-B375-A261424F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261-F271-4C00-8F32-72B39E5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F9C-F0A5-4128-80E5-75E1047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CC8-E818-4BDA-9F86-6FB1588C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FA7E-2B63-47B4-BA04-BA43D333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3957-21BB-4151-AF90-6CE8842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468-C050-48F0-BA35-4554FD3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E7D8-A1FC-4A9E-88F0-8033523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DAC-596A-4871-BC5F-EF37EB6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B5E0-6F86-46A6-900A-E4CA48CE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CE9-9167-42EF-842D-9B4F5E22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6B7-6FC4-4515-AF4F-32762FC2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13D7-1D4C-47C5-AB3B-5B220A49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FBDA-B09D-44D1-A160-085DE0E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A336-1F5A-4580-9B0A-96F52C4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7371-2BC6-4D1C-9A0F-6E2259B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4996-0D74-4789-AACD-9EF10890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29C-759F-4F7F-B69D-5CD53CF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0255-C109-40D4-AED9-B4E2B67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729E-E766-4AFE-9B74-945AC23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2604-41F7-42CE-9575-3F44BE5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CAA6-007B-4AEF-80BB-463F4A5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0155-5801-4D81-BE4F-EF3B7EF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F4F5-E872-49E6-A4EE-C27D9C5A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C028-18B7-4F0C-A69A-164BB6CB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2329-950E-4DAB-A099-EA6C818B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E573-D70C-4164-9A8F-2EA2E9C1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B0E46-83D9-46B6-9BBD-6020540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2CD-02B7-493A-907D-7F49597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19A7-1C10-4CC7-AF6F-3C46576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CB49-54E3-46E6-9A9B-0A4828E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F81C-FE81-4C83-A3ED-1962AE5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2FB1-FFC5-49B0-88E7-576FADD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7ED0-D593-4DA7-A494-311F722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F0BD-0CD4-4518-A033-2FAF0551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B7FF5-C2B9-4850-B461-A2184B0E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66A7-8D9D-4DF4-8C43-DB6AFD62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6A6D-1A5A-471F-BBB9-97BA06E9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FB82-46D1-480C-A4B5-CA2D3653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F85-FF4C-477A-8184-5906FBF5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2423-C2E7-4D71-A63C-D53CA5E5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3ED4E-BBDB-4C71-9C36-3D824808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84A3-0926-4CCF-A008-8AEBA33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04AA-6F4A-438D-96D5-5A26F03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F721-5037-4D4E-94A8-3931A66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F2891-5F9B-4A06-AACC-132BF4B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C2A6-2D26-4CF5-A6B9-4365863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52C9-DF98-4687-872F-4D1C61E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6826-3150-48B4-9CE1-770BD644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3D7F-BA2A-4D43-B14F-867A0DA1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D2D-53DF-47AC-A354-7722C2D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5AB4-53FD-45A5-B222-CAD94605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C616-9A07-4FEF-A4DB-9D876097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4BB3-0664-41A7-86C9-FFD9F349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F636-3501-4D24-9F26-40DC5B5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B649E-EC31-43B1-B202-369E1C6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70CC-F93C-497C-879B-01E6ECD5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59ED-2F61-43BB-A528-B72A2590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8DFB1-2A81-45EA-ABCD-142013E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E1664-C7B8-498C-A664-1CED1B0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80D5-3AD4-44C4-8FEF-B748364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371-D9BC-4255-9B37-848D589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FFA9-67A2-44CA-999A-A1EC229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A1EE-2CDA-40D0-9355-E3D2EB5F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A3401-BB4D-4933-BA81-4A8EB52E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0C84-E9AE-44A5-A6EC-1E1C5B8D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62F4-EE39-409F-A922-14371F46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0352-BE83-4DD5-A28C-83B4D0E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1AE3-2006-4CC7-82E1-5A2C3EC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1D3A-6F87-4005-BD9E-E2C92E2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625F5-4837-4369-B244-8394BAFB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E31E-DE25-4D86-B9C9-7968D28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EBA-C53A-4C17-97B1-63C5204D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4773-3C46-40DC-B47D-D2DA389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8283-666E-4A18-9C3E-191A494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A1719-2B67-449F-B4EE-000C5D6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1A78-1C6F-4877-9A8E-A3FF2538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4EDC-49F6-43BF-9BD7-30B0C02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015B-B7DB-443E-8E22-BC01B2C6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26F3A-0894-4A8A-865C-4D443D5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4499-5249-42AA-8016-0435CF0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8D97-7764-4B7D-A7AC-3F39A6B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C475-124C-49CD-8620-17E2457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728-5F57-4345-ABB2-8228E43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C81A-0D3C-4E3D-A9F0-E36B2DC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C743-EF9A-48C2-986F-50934FF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B4AA-46E0-4EF8-AAA8-0BE8467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B6B17-47D6-4AEF-B41B-48FF3DF0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01A6-D202-4ABB-B414-A7D5B7B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D781-E575-4013-A6AA-3969768B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E6EBB-19AD-4866-B229-1B63DDA4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FEF90-0153-473E-B9B3-E83C7CA3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CF53C-370C-43DE-A91B-F57E853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95B33-AE32-405C-A13D-4DF43CA6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5AC-E3FE-41CF-9DAE-BABCEB592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A35-EF2D-4954-89F1-30FE857CD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6C6-5C3B-40C3-8D03-E09D4A1DF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C0B8-583E-4BA9-88C5-2DA9370E6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0F89-85AA-46E5-8E06-B4D3A9039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BC0C-1AB1-4C84-8C13-D86B0C4C9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97F-20B2-49B9-8293-30568FAAB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DFF-D8A6-4B9A-8F15-82BDF6091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4ED-706C-4CBD-9CB4-25A358373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0FC-FEF4-43D4-8626-4B6AD9E98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A29-5EB7-4290-950B-9FC224CAB7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EC7-2B9C-4375-A52D-F1CB7F379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48c61"/>
                </a:solidFill>
                <a:latin typeface="Georgia"/>
              </a:rPr>
              <a:t>Integrated Thematic Unit Schedule and </a:t>
            </a:r>
            <a:br>
              <a:rPr sz="3800"/>
            </a:br>
            <a:r>
              <a:rPr b="1" lang="en-US" sz="3800" spc="-1" strike="noStrike">
                <a:solidFill>
                  <a:srgbClr val="648c61"/>
                </a:solidFill>
                <a:latin typeface="Georgia"/>
              </a:rPr>
              <a:t>Room Assignments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33520" y="2819520"/>
          <a:ext cx="8076960" cy="3352680"/>
        </p:xfrm>
        <a:graphic>
          <a:graphicData uri="http://schemas.openxmlformats.org/drawingml/2006/table">
            <a:tbl>
              <a:tblPr/>
              <a:tblGrid>
                <a:gridCol w="212760"/>
                <a:gridCol w="1776240"/>
                <a:gridCol w="1471680"/>
                <a:gridCol w="506520"/>
                <a:gridCol w="457200"/>
                <a:gridCol w="1725480"/>
                <a:gridCol w="1469880"/>
                <a:gridCol w="457200"/>
              </a:tblGrid>
              <a:tr h="372960"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tney Drumm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cnic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ssica Mo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/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gean Dun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lar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ttany Th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rd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gan Jen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uren A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C State Parks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ina Orms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S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dace McClel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erra Phip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u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gan Wo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orts &amp;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by Sche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y F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hley 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bin Ad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opical Rainfor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Isosceles Triangle 6"/>
          <p:cNvSpPr/>
          <p:nvPr/>
        </p:nvSpPr>
        <p:spPr>
          <a:xfrm rot="18842400">
            <a:off x="-299160" y="142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648c6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Isosceles Triangle 12"/>
          <p:cNvSpPr/>
          <p:nvPr/>
        </p:nvSpPr>
        <p:spPr>
          <a:xfrm rot="13455600">
            <a:off x="-245880" y="547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Isosceles Triangle 13"/>
          <p:cNvSpPr/>
          <p:nvPr/>
        </p:nvSpPr>
        <p:spPr>
          <a:xfrm rot="2715000">
            <a:off x="3039120" y="139752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Isosceles Triangle 14"/>
          <p:cNvSpPr/>
          <p:nvPr/>
        </p:nvSpPr>
        <p:spPr>
          <a:xfrm rot="18890400">
            <a:off x="4320000" y="141336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Isosceles Triangle 15"/>
          <p:cNvSpPr/>
          <p:nvPr/>
        </p:nvSpPr>
        <p:spPr>
          <a:xfrm rot="2748600">
            <a:off x="7669800" y="1416600"/>
            <a:ext cx="177948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6094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 - Sierra Phipp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525780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6 - Toby Scher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20"/>
          <p:cNvSpPr/>
          <p:nvPr/>
        </p:nvSpPr>
        <p:spPr>
          <a:xfrm>
            <a:off x="762012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 - Megan Jenning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21"/>
          <p:cNvSpPr/>
          <p:nvPr/>
        </p:nvSpPr>
        <p:spPr>
          <a:xfrm>
            <a:off x="121932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 - Shaina Ormsb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brahms Auditori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8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Rectangle 25"/>
          <p:cNvSpPr/>
          <p:nvPr/>
        </p:nvSpPr>
        <p:spPr>
          <a:xfrm>
            <a:off x="2590920" y="6248520"/>
            <a:ext cx="1218960" cy="1220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26"/>
          <p:cNvSpPr/>
          <p:nvPr/>
        </p:nvSpPr>
        <p:spPr>
          <a:xfrm rot="16200000">
            <a:off x="8420040" y="51433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Rectangle 27"/>
          <p:cNvSpPr/>
          <p:nvPr/>
        </p:nvSpPr>
        <p:spPr>
          <a:xfrm>
            <a:off x="4495680" y="1600200"/>
            <a:ext cx="152640" cy="15238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scilla Whi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8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Rounded Rectangle 11"/>
          <p:cNvSpPr/>
          <p:nvPr/>
        </p:nvSpPr>
        <p:spPr>
          <a:xfrm>
            <a:off x="4419720" y="1676520"/>
            <a:ext cx="274320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Rounded Rectangle 16"/>
          <p:cNvSpPr/>
          <p:nvPr/>
        </p:nvSpPr>
        <p:spPr>
          <a:xfrm rot="5400000">
            <a:off x="7505640" y="2705040"/>
            <a:ext cx="236196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5157000" y="19810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 - Megean Dunca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25"/>
          <p:cNvSpPr/>
          <p:nvPr/>
        </p:nvSpPr>
        <p:spPr>
          <a:xfrm>
            <a:off x="5638680" y="3581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 - Cortney Drummon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219320" y="6095880"/>
            <a:ext cx="6781680" cy="2286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1143000" y="1371600"/>
            <a:ext cx="121932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15"/>
          <p:cNvSpPr/>
          <p:nvPr/>
        </p:nvSpPr>
        <p:spPr>
          <a:xfrm rot="16200000">
            <a:off x="-266400" y="50666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ectangle 17"/>
          <p:cNvSpPr/>
          <p:nvPr/>
        </p:nvSpPr>
        <p:spPr>
          <a:xfrm rot="16200000">
            <a:off x="-266400" y="24001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Rectangle 18"/>
          <p:cNvSpPr/>
          <p:nvPr/>
        </p:nvSpPr>
        <p:spPr>
          <a:xfrm rot="16200000">
            <a:off x="8420040" y="52952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345960" y="350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7 - Robin Adam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Isosceles Triangle 6"/>
          <p:cNvSpPr/>
          <p:nvPr/>
        </p:nvSpPr>
        <p:spPr>
          <a:xfrm rot="18842400">
            <a:off x="-299160" y="142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648c6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Isosceles Triangle 12"/>
          <p:cNvSpPr/>
          <p:nvPr/>
        </p:nvSpPr>
        <p:spPr>
          <a:xfrm rot="13455600">
            <a:off x="-245880" y="547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Isosceles Triangle 13"/>
          <p:cNvSpPr/>
          <p:nvPr/>
        </p:nvSpPr>
        <p:spPr>
          <a:xfrm rot="2715000">
            <a:off x="3039120" y="139752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Isosceles Triangle 14"/>
          <p:cNvSpPr/>
          <p:nvPr/>
        </p:nvSpPr>
        <p:spPr>
          <a:xfrm rot="18890400">
            <a:off x="4320000" y="141336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Isosceles Triangle 15"/>
          <p:cNvSpPr/>
          <p:nvPr/>
        </p:nvSpPr>
        <p:spPr>
          <a:xfrm rot="2748600">
            <a:off x="7669800" y="1416600"/>
            <a:ext cx="177948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17"/>
          <p:cNvSpPr/>
          <p:nvPr/>
        </p:nvSpPr>
        <p:spPr>
          <a:xfrm>
            <a:off x="6094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 - Morgan Wor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26668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6 - Ashley Frankli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525780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 - Brittany Thom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121932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 - Jerissa Mon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brahms Auditori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9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Rectangle 16"/>
          <p:cNvSpPr/>
          <p:nvPr/>
        </p:nvSpPr>
        <p:spPr>
          <a:xfrm rot="16200000">
            <a:off x="3771720" y="2323440"/>
            <a:ext cx="160020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Rectangle 22"/>
          <p:cNvSpPr/>
          <p:nvPr/>
        </p:nvSpPr>
        <p:spPr>
          <a:xfrm>
            <a:off x="2362320" y="6248520"/>
            <a:ext cx="137160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Rectangle 23"/>
          <p:cNvSpPr/>
          <p:nvPr/>
        </p:nvSpPr>
        <p:spPr>
          <a:xfrm rot="5400000">
            <a:off x="8343720" y="5143320"/>
            <a:ext cx="114300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scilla Whi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9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Rounded Rectangle 11"/>
          <p:cNvSpPr/>
          <p:nvPr/>
        </p:nvSpPr>
        <p:spPr>
          <a:xfrm>
            <a:off x="4419720" y="1676520"/>
            <a:ext cx="274320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Rounded Rectangle 16"/>
          <p:cNvSpPr/>
          <p:nvPr/>
        </p:nvSpPr>
        <p:spPr>
          <a:xfrm rot="5400000">
            <a:off x="7505640" y="2705040"/>
            <a:ext cx="236196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5134320" y="1981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 - Lauren Ay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25"/>
          <p:cNvSpPr/>
          <p:nvPr/>
        </p:nvSpPr>
        <p:spPr>
          <a:xfrm>
            <a:off x="571500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 - Candace McClella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1219320" y="6095880"/>
            <a:ext cx="6781680" cy="2286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1143000" y="1371600"/>
            <a:ext cx="121932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Rectangle 15"/>
          <p:cNvSpPr/>
          <p:nvPr/>
        </p:nvSpPr>
        <p:spPr>
          <a:xfrm rot="16200000">
            <a:off x="-266400" y="50666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Rectangle 17"/>
          <p:cNvSpPr/>
          <p:nvPr/>
        </p:nvSpPr>
        <p:spPr>
          <a:xfrm rot="16200000">
            <a:off x="-266400" y="24001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Rectangle 18"/>
          <p:cNvSpPr/>
          <p:nvPr/>
        </p:nvSpPr>
        <p:spPr>
          <a:xfrm rot="16200000">
            <a:off x="8420040" y="52952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01:49Z</dcterms:created>
  <dc:creator>Ginger McKinney</dc:creator>
  <dc:description/>
  <dc:language>en-US</dc:language>
  <cp:lastModifiedBy>Ginger McKinney</cp:lastModifiedBy>
  <dcterms:modified xsi:type="dcterms:W3CDTF">2010-11-29T13:39:04Z</dcterms:modified>
  <cp:revision>15</cp:revision>
  <dc:subject/>
  <dc:title>Integrated Thematic Unit Room Assignments</dc:title>
</cp:coreProperties>
</file>